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A00-90DE-48D6-B30B-DF0EED30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B72-EB1A-4872-A0AA-B03D835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44A-1079-4A13-8BF4-CB42BD2C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282-EA05-49E6-A35E-53DDBA7F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A1B-CFBA-4B30-A6CF-F0F6C28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79C-CA25-4517-A26E-2674E3C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E9B-8BCF-4D10-B2C5-1A509AB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865-4C94-4B78-BA05-6E16E179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DC3-B9BC-4CD1-8599-A5222FB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6E5-9A87-4395-8F4D-35A3BFC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1D6-1F02-4571-AC7E-3A169F2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484-7F03-4456-B761-9B75B3C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9A15-CF87-43CE-B28F-B746239F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40:24Z</dcterms:created>
  <dc:creator>Grupo Editorial</dc:creator>
  <dc:description/>
  <dc:language>en-US</dc:language>
  <cp:lastModifiedBy>Grupo Editorial</cp:lastModifiedBy>
  <dcterms:modified xsi:type="dcterms:W3CDTF">2001-09-27T15:49:48Z</dcterms:modified>
  <cp:revision>1</cp:revision>
  <dc:subject/>
  <dc:title>Sin título de diapositiva</dc:title>
</cp:coreProperties>
</file>